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BBB-A16B-470A-B7E9-449DFC0A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9BF-AB19-4B16-ACB2-E439C22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829-F2C1-4602-B0E9-EE808927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0DF-E730-4673-BAF6-8ACDE0E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91D-02EC-4569-B583-036DEEB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7F7-E34D-4788-85D2-3D52C28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BB3-8B7B-46FA-9CEA-77FDC06C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368-0637-43A8-8BDF-E6C5D62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A2C-B4D5-4282-B7F0-909E6BB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BF8-9416-4F5C-8172-0DF156F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BA8-CAFC-454E-9F87-69BD57C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75B-9DA2-4364-A8F7-0FF981A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12F-64E7-4774-8EC8-D531F9CAB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82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reduce to 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com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2 + vi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50 + 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75 +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3 and su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martphone (exit seg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 challenge, no good way to low  cost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problems with software features in  mid-term (price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-house ultra low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2G feature phones to focus on 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2:37Z</dcterms:created>
  <dc:creator>Dingle Rick</dc:creator>
  <dc:description/>
  <dc:language>en-US</dc:language>
  <cp:lastModifiedBy>Dingle Rick</cp:lastModifiedBy>
  <dcterms:modified xsi:type="dcterms:W3CDTF">2004-12-03T12:44:28Z</dcterms:modified>
  <cp:revision>1</cp:revision>
  <dc:subject/>
  <dc:title>Cost Reduction</dc:title>
</cp:coreProperties>
</file>